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553-4D39-499A-B87E-4CBF499D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7B7-92DE-4630-B18E-DF927D1C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B2A-C015-4DD5-8AA1-33039870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E917-5B93-4FAB-A1DB-FDC1E87D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249-76C4-49EA-A42C-9C582CD6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16FA-05CF-4FF1-B45E-525AEA95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DB09-953F-4C31-B337-5EBD12BC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E255-AFDE-47D5-95BB-79918B17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F20-191C-4FED-B652-9EF80989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938-C62E-44FA-AE45-8B1B4F50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B67-7F06-4B6B-BD8A-C5F2457B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7F1-5BA2-4B44-B0DC-91484B5F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9235-B828-45CC-86FB-278471370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18900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¿Cómo se originó el agua en nuestro “Planeta Azul”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47200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91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18900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os cometas están formados casi en su totalidad por hie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03640" y="1700280"/>
            <a:ext cx="41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lgunos penetran en nuestra atmósfera y se fun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486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Los científicos estiman que el 14% del agua terrestre procede de esta “lluvia” continua de comet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3440" y="27082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371628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sí pues, el 14% del agua tiene origen extraterrest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31928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9280" y="530064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</a:rPr>
              <a:t>¿Y el resto?. Veámoslo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6520" y="620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260280"/>
            <a:ext cx="784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w Cen MT Condensed Extra Bold"/>
              </a:rPr>
              <a:t>Los científicos piensan que la Tierra era un planeta muy caliente cuando se form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8360" y="314172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4653000"/>
            <a:ext cx="770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w Cen MT Condensed Extra Bold"/>
              </a:rPr>
              <a:t>La Tierra fue enfriándose poco a poco, pero al principio la actividad volcánica era muy alta en todo el plane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260280"/>
            <a:ext cx="827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w Cen MT Condensed Extra Bold"/>
              </a:rPr>
              <a:t>Los volcanes emiten v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w Cen MT Condensed Extra Bold"/>
              </a:rPr>
              <a:t>gases, entre ellos vapor de ag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26028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w Cen MT Condensed Extra Bold"/>
              </a:rPr>
              <a:t>Los volcanes emiten varios gases, entre ellos vapor de 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352000" cy="4854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35280" y="3500280"/>
            <a:ext cx="534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por de agua y gases emitidos por el volcán Kilawea (Hawa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260280"/>
            <a:ext cx="835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w Cen MT Condensed Extra Bold"/>
              </a:rPr>
              <a:t>Cuando la Tierra se enfrió más, pudo empezar a condensarse el agua, que al principio sólo estaba en estado de vap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5734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¿Te acuerd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ENSACIÓN: es el cambio de estado, de gaseoso a líqu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364500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apor de agua (g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3716280"/>
            <a:ext cx="15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gua líq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condens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4365720"/>
            <a:ext cx="28080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20360" cy="7291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5680" y="40428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w Cen MT Condensed Extra Bold"/>
              </a:rPr>
              <a:t>Se formaron así los primitivos océ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720" y="1989000"/>
            <a:ext cx="874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Comic Sans MS"/>
              </a:rPr>
              <a:t>Millones de años después surgió la primera vida en el 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20:59:39Z</dcterms:created>
  <dc:creator>euyin</dc:creator>
  <dc:description/>
  <dc:language>en-US</dc:language>
  <cp:lastModifiedBy>Eugenio</cp:lastModifiedBy>
  <dcterms:modified xsi:type="dcterms:W3CDTF">2010-02-12T18:44:36Z</dcterms:modified>
  <cp:revision>408</cp:revision>
  <dc:subject/>
  <dc:title>Diapositiva 1</dc:title>
</cp:coreProperties>
</file>